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3DA6-974F-4DA7-9C2C-6A91749DD8CA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DE69-62D1-4C84-BDC0-296F46051E0C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3175-79D0-475D-ABF8-498DB8E4DC5A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807A-ACDE-4D9B-96EF-C68900D3F8DE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E901-88DC-48A1-A7A7-37405C27D294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C408-9BE8-4CB1-86B9-DAD2872F3D11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3BC9-94E8-4024-BA2C-5DF66F76DCD0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A37A-0E78-4148-A37B-0F7D2CEA8507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9F65-5C8C-4B7E-B1A5-8AEF3A27DDE7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AD30-DE44-47AB-91CA-76FEE8DD9D7F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0E68-9E6D-450F-B7C9-D9E695E138F8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E111-E62B-45DC-B1BB-A1AF78EFF8AD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8E1C-9905-4266-A76A-54953D0C897A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C122-A090-44E1-AECB-FCD13D9A8ADB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63FF-63D2-4516-AABF-23F43921026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4FDE-CCA1-431E-A8FF-82826E0CBF5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FC11-CE7F-4AEE-818A-6BB2D2200F7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FB67-7550-4FA3-AC48-C681AD85667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CF1C-2CF4-45AA-A1E4-0E9BC3B2B4B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6A6C-4471-4F4E-B5DF-C3B9A8DFB516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8E91-45BD-4B76-BDE3-3AD1D15C07E2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C908-0BE0-4B89-9B57-231DBC7B3CF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864D-64A8-4832-A567-4CD27888B30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AECB-1F3C-460D-B8E7-9FA44F7BAD36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BBCD-BECE-400B-9080-101978208D19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EA4-9E57-42F8-9EC0-ADD7A379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FFE-259D-452F-8FEE-8C2F69BE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999-6C97-4F84-AB4E-BF4E189B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BFA-6903-4B6A-85B3-09A1CC19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0BDF-B1FF-4E00-BE56-5C4E3D7A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0270-ECDC-48D6-B253-FDB26612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748A-7BE1-4B1C-8931-13D4DC97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AED9-9431-43F0-9861-CF8AFEAE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081B-96AE-4A38-BC0D-6FAFE33E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8180-C821-41BB-8704-F57A2EF6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ED09-A287-4A9F-AA70-70A14C8A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6D5-8213-4D03-A153-91E635C7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7983-8B8F-4773-8C4E-8813D65C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96F7-8370-413F-8A08-A85E6C3C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2688-C1CD-4FC2-B925-1D3FA8E7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68BF-7E5B-4388-B92D-FCA3E081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417A-03F6-465A-B6BB-13ECFBF7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280BD-5021-4709-A899-75FB9594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53E16-F362-4AD9-8992-8E649D80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0E9D8-0F26-4D27-9052-792A4264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69F6C-876D-49C2-89AC-46640464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B407-8B69-486F-97A9-89086D2E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102-B022-4A91-8300-0D23D4BE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9A27D-ECDC-4C28-9E79-94590B06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83F8A-BCAE-4710-A226-7143BDFA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0B25D-EFAF-49AF-BC28-E153741C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C3AE9-B555-4478-9A72-B3A60212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ABCB5-9548-4457-8AC9-40BF2562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A33AE-76A6-4DDB-8B87-280FA954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FA53-14BE-4A4F-9147-0CEF2209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9F687-AA5B-400F-A30C-1AC1D037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4F55B-30CF-4F38-9E92-3A2D7C7F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73B9C-24E1-4E8F-8FDB-8C822CF1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1A7-1CBC-431F-9ED0-2C2CDED9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22C32-0065-4E37-A38B-556DF940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F2EE8-3CB1-490B-B050-E2013729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4F976-25A7-4AA0-9AAB-35441341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D0945-04F7-4A60-8D74-0CFC009E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7E08A-E872-44C3-A73B-6BB6EB84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6AF54-FB7C-4489-A700-6A217601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A6666-A806-43D8-A074-6A63D4C0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0F085-FB6F-4C1C-AD74-6D098A38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7EFC3-E8F9-4ED4-8EAF-D1C98FBD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BA66C-ED9B-4D9E-935F-919A3982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94E-8975-4DCA-BF3A-F2117450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27D77-F05F-4328-9A7C-6C086A6C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18391-8622-4C94-A67A-D1B12CA7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AC697-CA2E-49B4-8674-CAC3ADD1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4C591-C332-408E-81A0-870EB65A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6BD91-96AA-48C0-8BA0-43996230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940E1-784A-4CEB-9C66-40C211FB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CF200-F681-4C27-B3B2-D6910A99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D9B53-EAFA-4A7C-B195-D77B25CC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68419-A97A-4E53-BCE3-0C452D40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378B4-14B7-4F33-998B-D14CEECC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3C2-86C2-41F5-AA5A-014E8C83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ED3F5-F079-4E92-9641-7D57FE0A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C5A-B4DE-4145-A3BE-DA1BB8FA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5C7-118E-4D2F-B916-71BCC69C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AF5-FFD6-4233-B01D-DB9794B6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336A-A2FE-4F20-AF5D-66AD59F6F54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AD84-48E4-423F-BC66-8697DB9898E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31D0-C7FE-4F9A-A237-332F1ECFEC4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0C75-9142-4B54-A738-1E23B37C9AA7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B47C-16B2-46E9-8FCE-4361E6DD7F1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894440" cy="944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84360" y="24210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9b639"/>
                </a:solidFill>
                <a:latin typeface="Bradley Hand ITC"/>
                <a:ea typeface="Calibri"/>
              </a:rPr>
              <a:t>‘</a:t>
            </a:r>
            <a:r>
              <a:rPr b="1" i="1" lang="en-US" sz="6600" spc="-1" strike="noStrike">
                <a:solidFill>
                  <a:srgbClr val="f9b639"/>
                </a:solidFill>
                <a:latin typeface="Bradley Hand ITC"/>
                <a:ea typeface="Calibri"/>
              </a:rPr>
              <a:t>Mum, Girls can do anything.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9b639"/>
                </a:solidFill>
                <a:latin typeface="Bradley Hand ITC"/>
                <a:ea typeface="Calibri"/>
              </a:rPr>
              <a:t>What can I do?’ - </a:t>
            </a:r>
            <a:r>
              <a:rPr b="1" i="1" lang="en-US" sz="6600" spc="-1" strike="noStrike">
                <a:solidFill>
                  <a:srgbClr val="000000"/>
                </a:solidFill>
                <a:latin typeface="Clarendon-Bold"/>
                <a:ea typeface="Calibri"/>
              </a:rPr>
              <a:t>Boy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Crouch: 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Poise, get ready, to embrace active mission-based learning within structure, order and securit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Trebuchet MS"/>
              </a:rPr>
              <a:t>Purposeful mission-based intention: goes somewhere for a reason. Has goal/try line and results/sco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Trebuchet MS"/>
              </a:rPr>
              <a:t>Order and security: rules, consequences, boss, fairn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Trebuchet MS"/>
              </a:rPr>
              <a:t>Structure: compartmentalised, linear, clear framework, may be graduated, clear rewards, predictabl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900720" y="113040"/>
            <a:ext cx="734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Calibri"/>
              </a:rPr>
              <a:t>Crouch: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alibri"/>
              </a:rPr>
              <a:t>to embrace active mission-based learning </a:t>
            </a:r>
            <a:r>
              <a:rPr b="0" lang="en-US" sz="900" spc="-1" strike="noStrike">
                <a:solidFill>
                  <a:srgbClr val="ff0000"/>
                </a:solidFill>
                <a:latin typeface="Calibri"/>
                <a:ea typeface="Calibri"/>
              </a:rPr>
              <a:t>Aspiration?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alibri"/>
              </a:rPr>
              <a:t> Order and security 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Calibri"/>
              </a:rPr>
              <a:t>orient on the goal and mission, embrace active mission-based lear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8654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ouch:  The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 body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s the learning tool, kinesthetic learning, act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Doing: </a:t>
            </a: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Active and kinaesthetic </a:t>
            </a: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is the way to learn, action methods, manipulating an environment, creating 3D (solid) and 2D (visual) fields to work i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Success/solution is by</a:t>
            </a:r>
            <a:r>
              <a:rPr b="0" i="1" lang="en-AU" sz="2400" spc="-1" strike="noStrike">
                <a:solidFill>
                  <a:srgbClr val="000000"/>
                </a:solidFill>
                <a:latin typeface="Trebuchet MS"/>
              </a:rPr>
              <a:t> doing</a:t>
            </a: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 someth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Touch boys and allow and encourage touc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Kinaesthetic relating to boys: Holding arms, hands/pat on bac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Rough and tumble.  Boys experience power physically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Play through touch: wrestling, rugby, holding, contact sport, martial ar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Reassurance of strength, warmth, intent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6840" y="1071360"/>
            <a:ext cx="8186760" cy="53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Boys are much less auditory. Talk less, give short instructions, one step at a time. Women reduce your vocab to one thir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Outdoor activity, large motor move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Produce things, concrete results of labou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Less focus on the emotional and verb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TV and film programming for males express this difference well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Video games know about this world of kinaesthetic action and achieve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When under threat males will go ‘into a cave’ and sort out a doing solution before talking about i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Doing links to the linear thin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7923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use to consider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conten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and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 process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at activates a boy’s intere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Factual, comparative, measured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Cause-effec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Goal oriented: treasure discovery, search, hunt, fix, find out, resolve a problem, achieve, find the unknow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Good for problem solving, fixing things, inventing thi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Action, movement from one point to another, speed, balls, wheels, directional move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Danger, suspense, terror, uncertainty, adventur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Associated with robustness and aggressio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828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68360" y="1267920"/>
            <a:ext cx="7238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Gives drive, focus, purpose and intentio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Sensitive to hierarchy, power and order.</a:t>
            </a:r>
            <a:r>
              <a:rPr b="1" lang="en-A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Consider Linear Think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Strong focussing on one thing, purposeful and may eliminate the peripher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Finds out how things wor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Begins and follows to a conclusion or solu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Sometimes called scientific, rational, logical or cause/effec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Active and moves directionally to an e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Tends to be black and whit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Seeks boundaries and compart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212760" y="139680"/>
            <a:ext cx="8480520" cy="1139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nvolve men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inspirational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leadership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that generates,  aspirational  intentio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Boys are hungry for engagement with m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Attract and keep and value male teach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Engage fathers and involve them for their own wort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Engage, welcome and involve parents not living with the chil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Share fathers and use mentoring schem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Ask future based questions that lead the child to connect the present with meaningful activity now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Establish intention in vocation and /or hold vocation for the bo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Provide heroes: super and loc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Create affirmation and foster male self estee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Respect masculinity and different ways of doing thi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Foster leadership and give responsibility that involves both achievement and nurtur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Ask who would you be like?  Who would you b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219240" y="755640"/>
            <a:ext cx="8486640" cy="7254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Get across the line to achieve  results, completion, endings, achievement of aspiration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Calibri"/>
              </a:rPr>
              <a:t>Is there a satisfactory completion and ending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Calibri"/>
              </a:rPr>
              <a:t>Notice linear learning and solutions, outcomes, results, completions, endings resolutions. 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Calibri"/>
              </a:rPr>
              <a:t>Did you score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212760" y="74304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rebuchet MS"/>
              </a:rPr>
              <a:t>Understand 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Linear Think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Promote problem solving, fixing things, inventing things for a clear go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Give all the time needed for that go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Allow projects to be kept so that they can be finish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Focussing on one thing at a t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Promote purposeful comple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Reward and acknowledge results not just proces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Finding out how things work is a goal of explor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Begin and follows to a conclusion or solu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What was the score/measure, numbers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Value the scientific, rational, logical or cause/effec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Allow it to be active and move directionally to an e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Allow for black and white responses and answ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Notice boundaries and compart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i="1" lang="en-AU" sz="3600" spc="-1" strike="noStrike">
                <a:solidFill>
                  <a:srgbClr val="000000"/>
                </a:solidFill>
                <a:latin typeface="Trebuchet MS"/>
              </a:rPr>
              <a:t>In a world where differences have not been acknowledged, the use of feminised processes and content has been assumed as normal and generic, when in fact it has discriminated against boys’ achievement</a:t>
            </a:r>
            <a:r>
              <a:rPr b="0" i="1" lang="en-A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676440" y="249120"/>
            <a:ext cx="7785000" cy="8114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56760" y="1214280"/>
            <a:ext cx="7815240" cy="521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rebuchet MS"/>
              </a:rPr>
              <a:t>Check your responses to the scrum activity? Did you experience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Enthusia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Cautio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Shyness at physical contact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Fear of being hurt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Fear of touch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Scorn 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Criticism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Glee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Relief at some physical movement 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Resentment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Frustratio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Rejectio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Disobedience for any of the reasons above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900" spc="-1" strike="noStrike">
                <a:solidFill>
                  <a:srgbClr val="df9307"/>
                </a:solidFill>
                <a:latin typeface="Trebuchet MS"/>
              </a:rPr>
              <a:t>This </a:t>
            </a:r>
            <a:r>
              <a:rPr b="0" i="1" lang="en-NZ" sz="1900" spc="-1" strike="noStrike">
                <a:solidFill>
                  <a:srgbClr val="ff0000"/>
                </a:solidFill>
                <a:latin typeface="Trebuchet MS"/>
              </a:rPr>
              <a:t>may </a:t>
            </a:r>
            <a:r>
              <a:rPr b="0" i="1" lang="en-NZ" sz="1900" spc="-1" strike="noStrike">
                <a:solidFill>
                  <a:srgbClr val="df9307"/>
                </a:solidFill>
                <a:latin typeface="Trebuchet MS"/>
              </a:rPr>
              <a:t>be your response to boys in schools and what they ask, demand and bring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19240" y="384120"/>
            <a:ext cx="7492680" cy="7254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Boys can do anything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Validation for being boy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Generate action, mission and challeng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Foster creation, invention, risk-tak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Foster Care and nurtur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allenge the ‘feminine-sides’ theory. Men and women do the same things but in different way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Protection, Fierceness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d competition self and others, when it’s over it’s ov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551720" cy="1176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A Male undercla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A ‘Cool to fool’ cultu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Drop ou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Ga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Achievement by alternative mea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Poor health and wellbe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413000"/>
            <a:ext cx="7238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Equal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Living fairn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Greater appreciation of divers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Increased aspir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Reduced dysfunction in school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Balanced parenting and responsibil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More love for kid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Better health for mal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Increased social wellbe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Increased happiness for those giving and car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Crouch: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o embrace active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mission-based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learning within order and secur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Touch: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e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 body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 the learning tool, kinesthetic learning, ac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ause: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nsider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content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that activates boy’s intere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Engage: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Involve men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 inspirational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leadership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that generates, models aspirational  intention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Score: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Getting across the line to achieve  results, completion, endings,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achievement of aspirat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Presentation by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600" spc="-1" strike="noStrike">
                <a:solidFill>
                  <a:srgbClr val="000000"/>
                </a:solidFill>
                <a:latin typeface="Trebuchet MS"/>
              </a:rPr>
              <a:t>Warwick Pudney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600" spc="-1" strike="noStrike">
                <a:solidFill>
                  <a:srgbClr val="000000"/>
                </a:solidFill>
                <a:latin typeface="Trebuchet MS"/>
              </a:rPr>
              <a:t>AUT Universit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600" spc="-1" strike="noStrike">
                <a:solidFill>
                  <a:srgbClr val="000000"/>
                </a:solidFill>
                <a:latin typeface="Trebuchet MS"/>
              </a:rPr>
              <a:t>9219999 ext 7729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600" spc="-1" strike="noStrike">
                <a:solidFill>
                  <a:srgbClr val="000000"/>
                </a:solidFill>
                <a:latin typeface="Trebuchet MS"/>
              </a:rPr>
              <a:t>warwick.pudney@aut.ac.nz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44440" y="512640"/>
            <a:ext cx="8386920" cy="1627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35000" y="2060280"/>
            <a:ext cx="8896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In 2009 there were 60% more female graduates  from tertiary education than male. Stats. NZ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Prof. David Fergusson: Dunedin study. Boys are behind in all subjects, at all levels. 199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Report 2007 provided no recommendations only named the issu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This is an international phenomen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Other countries are doing bett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Effort is coming from teachers not the syst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80960" y="328680"/>
            <a:ext cx="8261280" cy="14810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10920" y="2491920"/>
            <a:ext cx="7848360" cy="40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rebuchet MS"/>
              </a:rPr>
              <a:t>90-95% of RTLB referral are boy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rebuchet MS"/>
              </a:rPr>
              <a:t>80-95% police youth engagemen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rebuchet MS"/>
              </a:rPr>
              <a:t>Illiteracy 80-90% ma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rebuchet MS"/>
              </a:rPr>
              <a:t>Prison population  80-85% male. Literacy and numeracy are key rehabilitation facto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rebuchet MS"/>
              </a:rPr>
              <a:t>Unemployment figures show more men becoming unemployed/unemployable than wome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rebuchet MS"/>
              </a:rPr>
              <a:t>Graduates of tertiary ed. 60% more women each yea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Trebuchet MS"/>
              </a:rPr>
              <a:t>Do we have a feminised system 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Primary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1971     37.8 % male teachers in prima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006     14% report (2006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Early childhoo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ECE 1992    2.1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ECE Now under 1% and rising (Farquhar 1997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rway (10%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We celebrate that girls can do anyth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We shudder at the effect of boys not being able to achieve to their fullness and the way boys and men handle those effects.  As with Maori education this becomes a human rights issu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Efforts to address inequality for boys have been slow and defensive.  Practitioners have tended to see the problem as </a:t>
            </a:r>
            <a:r>
              <a:rPr b="0" i="1" lang="en-AU" sz="2600" spc="-1" strike="noStrike">
                <a:solidFill>
                  <a:srgbClr val="000000"/>
                </a:solidFill>
                <a:latin typeface="Trebuchet MS"/>
              </a:rPr>
              <a:t>boy-owned</a:t>
            </a: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 rather than a systemic problem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The analysis has not been client-centred.  It suggests that the system is OK and concludes boys need to improve within the syste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There is little evidence of positive discrimination which might rectify this situation.  A learner-centred approach that examines differences, needs and solutions is requir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Teachers are making the difference not polic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Boys have differences from girls that are both social constructions and genetic.(nature and nurtur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How much of either is not the issue.</a:t>
            </a:r>
            <a:br>
              <a:rPr sz="2600"/>
            </a:b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When they arrive in our care they are differen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If we are teaching and caring in a child-centred manner then we will respect those differen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Rugby provides us with  an appropriate metaphorical structure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Trebuchet MS"/>
              </a:rPr>
              <a:t>Crouch, Touch, Pause Engage and Sco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Crouch: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o embrace active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mission-based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learning within order and secur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Touch: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e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 body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 the learning tool, kinesthetic learning, ac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ause: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nsider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content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that activates boy’s intere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Engage: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Involve men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 inspirational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leadership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that generates, models aspirational  intention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Score: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Getting across the line to achieve  results, completion, endings,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achievement of aspirat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3:19:50Z</dcterms:created>
  <dc:creator>AUT User</dc:creator>
  <dc:description/>
  <dc:language>en-US</dc:language>
  <cp:lastModifiedBy>AUT User</cp:lastModifiedBy>
  <dcterms:modified xsi:type="dcterms:W3CDTF">2011-09-13T02:54:15Z</dcterms:modified>
  <cp:revision>54</cp:revision>
  <dc:subject/>
  <dc:title>Auckland Primary Principals’ Association Conference</dc:title>
</cp:coreProperties>
</file>